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4D7-3343-45F8-B18E-7FBC3C6B91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875-5D4A-4673-89CB-F0F787F1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tudents can customize their avatars to create an individualized virtual charac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take the role of forensic scienti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d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ents use their avatars for pranking! Click hyperlink for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enjoy using the system which encourages students to attend class regul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MUVE technology to teach other subjects besides b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interact through the forum and tutor one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0EA-C298-4BF5-9214-D1B6DC35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22C-B1DA-4BA4-BF03-4CA49329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184-F129-4DE3-8278-67A1E989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396-73FB-4B1A-907D-1C15E091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7C7-68AD-411A-A33D-9CF1EE5A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D58-759F-43E7-BECE-0F5050E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D8F-496C-40ED-A7D4-0A2E48A3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AFD-CA10-403C-B905-12F6EED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D75-5990-447B-AAFD-6952468F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1D8-87B0-4407-959F-BB380D5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9A9-E0B8-4EA1-9528-6A7F22C2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5CA-DAF6-478D-9D3A-14E8D80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654-6588-49BB-8DCD-3E4780028241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925-579F-4585-BAB8-7F685021412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5" descr="C:\Documents and Settings\itlstudent\Local Settings\Temporary Internet Files\Content.IE5\51DWVBY5\MPj04140420000[1].jpg"/>
          <p:cNvPicPr/>
          <p:nvPr/>
        </p:nvPicPr>
        <p:blipFill>
          <a:blip r:embed="rId3"/>
          <a:stretch/>
        </p:blipFill>
        <p:spPr>
          <a:xfrm>
            <a:off x="1143000" y="1371600"/>
            <a:ext cx="7362720" cy="5105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971800" y="1752480"/>
            <a:ext cx="358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y:  Dustin Smi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2"/>
          <a:stretch/>
        </p:blipFill>
        <p:spPr>
          <a:xfrm>
            <a:off x="457200" y="23184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multi-user virtual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online simulation of a geographical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navigate an avatar around an environment similar to a SIMS game in order to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4" name="Picture 3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4952880" y="4114800"/>
            <a:ext cx="2438640" cy="248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Leading educational MUV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Created by several professors from a group of universit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Virtual Realit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students gather data to determine the cause of health crisi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udents work through their avatars to interview inhabitants of an 1800’s river town and explore the geographical terrain to determine the source of the medical probl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students are able to interact with other students in other school systems to develop a theory for what is causing the disease in River C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10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Not All Fun and Ga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parents are skeptical of the technology because they are unsure to what extent their children are interacting with oth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controls are setup to monitor chatting and email activ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professors monitor the chat areas to ensure there are no inappropriate activities going on inside the chat roo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me children may not have access to a computer at their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teachers help these students find access to the internet at public libra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teachers help these students find access to the internet in computer labs on campu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introduced to Whyville technology showed improvement in bi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after the study, students showed a 32%-35% increase of knowledge of biology using the Whyville techn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s learned inquiry-based learning by using the technology based on their responses to how and why the disease spread throughout the commun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enteeism decreased after integrating Whyville into lesson pl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4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open internet fo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used Whyville to learn how disease sp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interactive, avatar driven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Teacher as the gu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eachers are guides rather than answer giv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eachers become more proficient at inquiry-based learning and teachers teach students by allowing them to ask and answer their own questio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tudents learn to teach themselves and each other by interacting within the virtual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3"/>
          <p:cNvSpPr txBox="1"/>
          <p:nvPr/>
        </p:nvSpPr>
        <p:spPr>
          <a:xfrm>
            <a:off x="1066680" y="68580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8080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Rockwell"/>
              </a:rPr>
              <a:t>Why I Would Use Whyville</a:t>
            </a:r>
            <a:endParaRPr b="0" lang="en-US" sz="2400" spc="1" strike="noStrike">
              <a:ln w="12600">
                <a:solidFill>
                  <a:srgbClr val="808080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Rockwell"/>
              <a:ea typeface="Rockwel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220968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ncourages inquiry-based learning, which is essential for teaching b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forces students to discuss problems and ideas within the virtual world and elicits class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References 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isdell, M. (2006)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ucational gaming: all the right MUVEs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urnal.  Retrieved February 2, 2010. &lt;http://thejournal.com/articles/2006/09/01/educational-gaming--all-the-right-muv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ttp://www.youtube.com/watch?v=xcNP7xjWKk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ww.whyville.c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3:19:35Z</dcterms:created>
  <dc:creator>itlstudent</dc:creator>
  <dc:description/>
  <dc:language>en-US</dc:language>
  <cp:lastModifiedBy>student</cp:lastModifiedBy>
  <dcterms:modified xsi:type="dcterms:W3CDTF">2010-03-10T23:32:10Z</dcterms:modified>
  <cp:revision>15</cp:revision>
  <dc:subject/>
  <dc:title>Learning in Another World</dc:title>
</cp:coreProperties>
</file>